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2F71-5127-46D9-9E50-9D3698A0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070-15F8-4181-85FB-DD290F1D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196A-481D-417A-BB24-5822E710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DA0F-9775-4679-9C68-324CE19E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213A-AFA9-4860-8858-44B76716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677F-2857-4DE4-B702-90C354AB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F2FD-1B03-45B6-9570-B15F157C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C986-1DB6-47D1-948E-775769D1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6E9B-DFD7-4028-AF84-7BB1CCEF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A2D8-21FB-4DCB-BD68-B3F6EE88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B16F-9120-4976-8043-D7A28643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3D6D-1362-4541-BB49-A95F3927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057F-9324-4F06-B73C-4D79115A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6899-3DA3-4234-A468-F7D7D264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57EA-05B9-49BC-ABC6-E34F2DCA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3F53-3629-4DCD-8239-E190C28C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111C-C455-476A-83B8-EB69D835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7DA21-C86E-4A56-AA20-87F98EA9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82843-F693-4975-AD94-453D9394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6A1E2E-4950-49F5-96C1-30C91EE4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01A34-AFB2-4E89-9AC6-2A0BDA6E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6249EB-2A54-4FAA-A487-40774D17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A46D-78AC-4126-B177-587FBD2C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F2BC1A-5E94-423C-BE75-7BFA1970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25C12A-ADD3-4DB8-95FC-EBAEAD84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183378-4DA2-497E-948E-5B361E0E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4072A5-36DB-4B0B-BB65-AE793957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33A5E-8B50-4F9D-A23F-70CA7875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BE890F-1112-4456-9807-F98536E5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2530D-FC54-4A23-AD46-D6467511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77608-E83E-47EA-9FC5-5CB5213E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F78EA-56D8-4194-B061-7897D9DF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5424D-CADE-4C70-AAE6-D7C7F23A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FDD4-F75B-4A6C-A4B4-BBA6F732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27FD5-95B3-470B-833C-52D24F95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A0545-280F-4B4E-A526-80CABD83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05EA0-ECFC-4192-A829-724672EB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29296-59DB-4B2A-9DB4-C4760771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9E4C6-1BB2-4440-B212-9478A699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6BDA7-D88D-4DDA-83C9-25DFFA54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F6AA9-4D6D-40AF-BB3E-9D7400B1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03252-EE3A-4ADD-836B-6FD48E41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2BA16-53E9-46A2-A8F4-CC36FC02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EB1EA2-B05F-4BC0-9DB0-28D7C2F0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F7F6-5D93-4045-9D51-B88FAE39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3A7D92-4F50-4268-8E46-7389A283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2B1626-821A-4774-9658-8E6FC25F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C88E11-417B-4A28-BBC1-98CE1901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8FA7E1-9CD2-47A9-AAD4-31153B3A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5AD63B-9D16-40A6-AF08-0A267A3C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B577A9-C1F6-4AB1-BDB6-84FE333C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FF54D4-D31E-4B0E-ADEA-04EEF9B8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61839B-7B9D-4C2C-BD3C-9177C4AB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9F3A12-69FE-4DF7-99C3-D1345FB1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4B0673-0786-48AF-B7CC-D7FE4B077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43AF-52CB-44CA-A106-4C040108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D1F6F4-B5D4-4F31-81C3-90314EB8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CC3822-D166-4509-8D14-B302CD4E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8ADAE0-6C83-43F0-8103-BCA3398E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2E81A7-E29F-4054-B666-E32EC581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5CBB39-8CFF-45B1-9335-23C04C28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AF68FA-7163-40CE-8DAE-81492895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02DD41-FB3C-422D-B340-3D40A90E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FC8F4E-6315-4EE4-BD12-1DBAAF81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C7959B-0F4F-49D0-8D9C-8329C111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7A3B20-4954-407F-A164-9B86B077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7C18-2496-4DB8-B0CF-2919B748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913A6C-CDEA-40B9-BD84-A4CB9416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DBE708-3C7B-4C82-99C7-962AF808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343E1E-EB56-4077-8942-FCB53EDF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42E3D9-EE73-458E-A1BD-BC2E4535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EB151C-DE3A-4CF3-BD60-8AA665B2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B60BC1-5868-4F48-B71B-789E7057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402DC8-08EE-4555-B92B-FBE008C6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D643D2-DA91-4904-B74D-FCD19277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0E2D1F-55D2-4451-998F-9C0FEC3F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9747BE-2F5C-43E5-BBF5-0BBA4D14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D5AD-4AF0-4C90-9659-66288B38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FD1B77-B8E3-49AD-B86B-16196902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16E146-F549-456B-8A2C-4D44664A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8C365E-1E1D-4B1E-B5E7-00E15B76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D07BD0-C4D5-47AA-B6BB-CC5CFF65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03E101-517B-4851-B61C-61A2AD90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DA78-E94F-408D-ACB3-5DEF6B9E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72D0-561D-43B8-B865-0AC358D1DCE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F8B8-02F6-446E-A585-9545F75A9BB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3EA5-2088-408B-9C2B-32C4DFF27AA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D684-854B-4413-89B9-C8724F7B888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AB9F-4315-4D24-87D5-1D03A9821CA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8A2E-E038-4214-BE7D-D9BA1AEEF53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2DB9-E01F-4F9C-800C-7115A049B16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APTER 8 WARM-U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efine metabolism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List 3 forms of energ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ere does the energy available for nearly all living things on earth come from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6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</a:t>
            </a:r>
            <a:r>
              <a:rPr b="0" lang="en-US" sz="2800" spc="-1" strike="noStrike">
                <a:solidFill>
                  <a:srgbClr val="fe8637"/>
                </a:solidFill>
                <a:latin typeface="Century Schoolbook"/>
              </a:rPr>
              <a:t>closed</a:t>
            </a:r>
            <a:r>
              <a:rPr b="0" lang="en-US" sz="2800" spc="-1" strike="noStrike">
                <a:solidFill>
                  <a:srgbClr val="fe8637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ystem, such as liquid in a thermos, is isolated from its surrounding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6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 an </a:t>
            </a:r>
            <a:r>
              <a:rPr b="0" lang="en-US" sz="2800" spc="-1" strike="noStrike">
                <a:solidFill>
                  <a:srgbClr val="fe8637"/>
                </a:solidFill>
                <a:latin typeface="Century Schoolbook"/>
              </a:rPr>
              <a:t>ope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ystem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energy and matter can be transferred between the system and its surrounding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6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entury Schoolbook"/>
              </a:rPr>
              <a:t>Organisms are open system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e8637"/>
                </a:solidFill>
                <a:uFillTx/>
                <a:latin typeface="Century Schoolbook"/>
              </a:rPr>
              <a:t>THERMODYNAMIC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IS THE STUDY OF ENERGY TRANSFORMATIONS THAT OCCUR IN NATURE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e8637"/>
                </a:solidFill>
                <a:latin typeface="Century Schoolbook"/>
              </a:rPr>
              <a:t>THE FIRST LAW OF THERMODYNAMIC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944640"/>
            <a:ext cx="815328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 energy of the universe is constan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nerg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ca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be transferred and transform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nerg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cannot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be created or destroy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lso called the principle of </a:t>
            </a:r>
            <a:r>
              <a:rPr b="1" lang="en-US" sz="2800" spc="-1" strike="noStrike">
                <a:solidFill>
                  <a:srgbClr val="0070c0"/>
                </a:solidFill>
                <a:latin typeface="Century Schoolbook"/>
              </a:rPr>
              <a:t>Conservation of Energ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3" descr="08_03aThermodynamicsLaw-L.jpg"/>
          <p:cNvPicPr/>
          <p:nvPr/>
        </p:nvPicPr>
        <p:blipFill>
          <a:blip r:embed="rId1"/>
          <a:stretch/>
        </p:blipFill>
        <p:spPr>
          <a:xfrm>
            <a:off x="2819520" y="3733920"/>
            <a:ext cx="312408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e8637"/>
                </a:solidFill>
                <a:latin typeface="Century Schoolbook"/>
              </a:rPr>
              <a:t>THE SECOND LAW OF THERMODYNAMIC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240" y="944640"/>
            <a:ext cx="85345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6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very energy transfer or transformation </a:t>
            </a:r>
            <a:r>
              <a:rPr b="0" lang="en-US" sz="2800" spc="-1" strike="noStrike">
                <a:solidFill>
                  <a:srgbClr val="fe8637"/>
                </a:solidFill>
                <a:latin typeface="Century Schoolbook"/>
              </a:rPr>
              <a:t>increases the entropy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disorder) of the univers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6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uring every energy transfer or transformation, some energy is </a:t>
            </a:r>
            <a:r>
              <a:rPr b="0" i="1" lang="en-US" sz="2800" spc="-1" strike="noStrike">
                <a:solidFill>
                  <a:srgbClr val="ff0000"/>
                </a:solidFill>
                <a:latin typeface="Century Schoolbook"/>
              </a:rPr>
              <a:t>unusable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, often lost as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he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3" descr="08_03bThermodynamicsLaw-L.jpg"/>
          <p:cNvPicPr/>
          <p:nvPr/>
        </p:nvPicPr>
        <p:blipFill>
          <a:blip r:embed="rId1"/>
          <a:stretch/>
        </p:blipFill>
        <p:spPr>
          <a:xfrm>
            <a:off x="1600200" y="3581280"/>
            <a:ext cx="564516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Free energy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part of a system’s energy available to perform work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G = change in free energ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Century Schoolbook"/>
              </a:rPr>
              <a:t>Exergonic reactio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energy is releas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pontaneous reac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G &lt; 0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2060"/>
                </a:solidFill>
                <a:uFillTx/>
                <a:latin typeface="Century Schoolbook"/>
              </a:rPr>
              <a:t>Endergonic reactio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energy is requir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bsorb free energ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G &gt; 0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4" descr="08_06aExergonicEndergonic-L.jpg"/>
          <p:cNvPicPr/>
          <p:nvPr/>
        </p:nvPicPr>
        <p:blipFill>
          <a:blip r:embed="rId1"/>
          <a:stretch/>
        </p:blipFill>
        <p:spPr>
          <a:xfrm>
            <a:off x="298440" y="530280"/>
            <a:ext cx="854712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08_06bExergonicEndergonic-L.jpg"/>
          <p:cNvPicPr/>
          <p:nvPr/>
        </p:nvPicPr>
        <p:blipFill>
          <a:blip r:embed="rId1"/>
          <a:stretch/>
        </p:blipFill>
        <p:spPr>
          <a:xfrm>
            <a:off x="298440" y="530280"/>
            <a:ext cx="854712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53416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cell does three main kinds of work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hemica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ells manage energy resources to do work by </a:t>
            </a:r>
            <a:r>
              <a:rPr b="0" lang="en-US" sz="2800" spc="-1" strike="noStrike" u="sng">
                <a:solidFill>
                  <a:srgbClr val="7030a0"/>
                </a:solidFill>
                <a:uFillTx/>
                <a:latin typeface="Century Schoolbook"/>
              </a:rPr>
              <a:t>energy coupling</a:t>
            </a:r>
            <a:r>
              <a:rPr b="0" lang="en-US" sz="2800" spc="-1" strike="noStrike">
                <a:solidFill>
                  <a:srgbClr val="7030a0"/>
                </a:solidFill>
                <a:latin typeface="Century Schoolbook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using an </a:t>
            </a:r>
            <a:r>
              <a:rPr b="1" i="1" lang="en-US" sz="2800" spc="-1" strike="noStrike">
                <a:solidFill>
                  <a:srgbClr val="ff0000"/>
                </a:solidFill>
                <a:latin typeface="Century Schoolbook"/>
              </a:rPr>
              <a:t>exergonic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process to drive an </a:t>
            </a:r>
            <a:r>
              <a:rPr b="1" i="1" lang="en-US" sz="2800" spc="-1" strike="noStrike">
                <a:solidFill>
                  <a:srgbClr val="002060"/>
                </a:solidFill>
                <a:latin typeface="Century Schoolbook"/>
              </a:rPr>
              <a:t>endergonic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on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1" lang="en-US" sz="2800" spc="-1" strike="noStrike">
                <a:solidFill>
                  <a:srgbClr val="0070c0"/>
                </a:solidFill>
                <a:latin typeface="Century Schoolbook"/>
              </a:rPr>
              <a:t>adenosine triphosphate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 is the cell’s main energy source in energy coupl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TP = adenine + ribose + 3 phospha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7" descr="08_08aATPStructHydrolys-L.jpg"/>
          <p:cNvPicPr/>
          <p:nvPr/>
        </p:nvPicPr>
        <p:blipFill>
          <a:blip r:embed="rId1"/>
          <a:stretch/>
        </p:blipFill>
        <p:spPr>
          <a:xfrm>
            <a:off x="685800" y="2387520"/>
            <a:ext cx="736776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en the bonds between the phosphate groups are broken by </a:t>
            </a:r>
            <a:r>
              <a:rPr b="0" lang="en-US" sz="2800" spc="-1" strike="noStrike">
                <a:solidFill>
                  <a:srgbClr val="fe8637"/>
                </a:solidFill>
                <a:latin typeface="Century Schoolbook"/>
              </a:rPr>
              <a:t>hydrolysi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entury Schoolbook"/>
              </a:rPr>
              <a:t>energy is releas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s release of energy comes from the </a:t>
            </a:r>
            <a:r>
              <a:rPr b="0" lang="en-US" sz="2800" spc="-1" strike="noStrike">
                <a:solidFill>
                  <a:srgbClr val="fe8637"/>
                </a:solidFill>
                <a:latin typeface="Century Schoolbook"/>
              </a:rPr>
              <a:t>chemical change to a state of lower free energy</a:t>
            </a:r>
            <a:r>
              <a:rPr b="0" lang="en-US" sz="2800" spc="-1" strike="noStrike">
                <a:solidFill>
                  <a:srgbClr val="fe8637"/>
                </a:solidFill>
                <a:latin typeface="Century Schoolbook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not in the phosphate bonds themselv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3" descr="08_08bATPStructHydrolys-L.jpg"/>
          <p:cNvPicPr/>
          <p:nvPr/>
        </p:nvPicPr>
        <p:blipFill>
          <a:blip r:embed="rId1"/>
          <a:stretch/>
        </p:blipFill>
        <p:spPr>
          <a:xfrm>
            <a:off x="1752480" y="2819520"/>
            <a:ext cx="502308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4678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8637"/>
                </a:solidFill>
                <a:latin typeface="Century Schoolbook"/>
              </a:rPr>
              <a:t>HOW ATP PERFORMS WORK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Century Schoolbook"/>
              </a:rPr>
              <a:t>Exergonic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release of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is used to do the </a:t>
            </a:r>
            <a:r>
              <a:rPr b="1" i="1" lang="en-US" sz="2800" spc="-1" strike="noStrike">
                <a:solidFill>
                  <a:srgbClr val="0070c0"/>
                </a:solidFill>
                <a:latin typeface="Century Schoolbook"/>
              </a:rPr>
              <a:t>endergonic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work of cel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en ATP is hydrolyzed, it becomes ADP (adenosine diphosphate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1" descr="08_11ATPCycle-L.jpg"/>
          <p:cNvPicPr/>
          <p:nvPr/>
        </p:nvPicPr>
        <p:blipFill>
          <a:blip r:embed="rId1"/>
          <a:stretch/>
        </p:blipFill>
        <p:spPr>
          <a:xfrm>
            <a:off x="304920" y="2895480"/>
            <a:ext cx="8402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CH. 8 WARM-UP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at are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an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laws of thermodynamics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Give the definition and an example of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>
              <a:spcBef>
                <a:spcPts val="700"/>
              </a:spcBef>
              <a:buClr>
                <a:srgbClr val="fe8637"/>
              </a:buClr>
              <a:buSzPct val="80000"/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atabolic reac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>
              <a:spcBef>
                <a:spcPts val="700"/>
              </a:spcBef>
              <a:buClr>
                <a:srgbClr val="fe8637"/>
              </a:buClr>
              <a:buSzPct val="80000"/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nabolic reac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s the breakdown of glucose in cellular respirat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exergonic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endergonic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1406520" y="227160"/>
            <a:ext cx="6329520" cy="640224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4"/>
          <p:cNvSpPr/>
          <p:nvPr/>
        </p:nvSpPr>
        <p:spPr>
          <a:xfrm>
            <a:off x="5248440" y="4753080"/>
            <a:ext cx="355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NH</a:t>
            </a:r>
            <a:r>
              <a:rPr b="1" lang="en-US" sz="11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5253120" y="5164200"/>
            <a:ext cx="333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Gl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6006960" y="752400"/>
            <a:ext cx="1922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6126120" y="825480"/>
            <a:ext cx="1573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Schoolbook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5878440" y="4975200"/>
            <a:ext cx="1922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5997600" y="5048280"/>
            <a:ext cx="1569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Schoolbook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6083280" y="3333600"/>
            <a:ext cx="1922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6202440" y="3406680"/>
            <a:ext cx="1569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Schoolbook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7469280" y="3078000"/>
            <a:ext cx="1918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7588080" y="3151080"/>
            <a:ext cx="1573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Schoolbook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4"/>
          <p:cNvSpPr/>
          <p:nvPr/>
        </p:nvSpPr>
        <p:spPr>
          <a:xfrm>
            <a:off x="3327480" y="5033880"/>
            <a:ext cx="333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Gl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5"/>
          <p:cNvSpPr/>
          <p:nvPr/>
        </p:nvSpPr>
        <p:spPr>
          <a:xfrm>
            <a:off x="3960720" y="4948200"/>
            <a:ext cx="355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NH</a:t>
            </a:r>
            <a:r>
              <a:rPr b="1" lang="en-US" sz="11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6"/>
          <p:cNvSpPr/>
          <p:nvPr/>
        </p:nvSpPr>
        <p:spPr>
          <a:xfrm>
            <a:off x="3397320" y="4600440"/>
            <a:ext cx="1918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7"/>
          <p:cNvSpPr/>
          <p:nvPr/>
        </p:nvSpPr>
        <p:spPr>
          <a:xfrm>
            <a:off x="4019400" y="3336840"/>
            <a:ext cx="1922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8"/>
          <p:cNvSpPr/>
          <p:nvPr/>
        </p:nvSpPr>
        <p:spPr>
          <a:xfrm>
            <a:off x="3786120" y="955800"/>
            <a:ext cx="1126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9"/>
          <p:cNvSpPr/>
          <p:nvPr/>
        </p:nvSpPr>
        <p:spPr>
          <a:xfrm>
            <a:off x="1738440" y="2894040"/>
            <a:ext cx="3301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AT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0"/>
          <p:cNvSpPr/>
          <p:nvPr/>
        </p:nvSpPr>
        <p:spPr>
          <a:xfrm>
            <a:off x="7364520" y="2716200"/>
            <a:ext cx="3301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AD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1"/>
          <p:cNvSpPr/>
          <p:nvPr/>
        </p:nvSpPr>
        <p:spPr>
          <a:xfrm>
            <a:off x="3294000" y="1630440"/>
            <a:ext cx="100656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Schoolbook"/>
              </a:rPr>
              <a:t>Moto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2"/>
          <p:cNvSpPr/>
          <p:nvPr/>
        </p:nvSpPr>
        <p:spPr>
          <a:xfrm>
            <a:off x="2754360" y="1887480"/>
            <a:ext cx="22287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Schoolbook"/>
              </a:rPr>
              <a:t>Mechanical work: ATP phosphorylates moto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3"/>
          <p:cNvSpPr/>
          <p:nvPr/>
        </p:nvSpPr>
        <p:spPr>
          <a:xfrm>
            <a:off x="5075280" y="1627200"/>
            <a:ext cx="111744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Schoolbook"/>
              </a:rPr>
              <a:t>Protein 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4"/>
          <p:cNvSpPr/>
          <p:nvPr/>
        </p:nvSpPr>
        <p:spPr>
          <a:xfrm>
            <a:off x="2436840" y="2335320"/>
            <a:ext cx="799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Schoolbook"/>
              </a:rPr>
              <a:t>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Schoolbook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5"/>
          <p:cNvSpPr/>
          <p:nvPr/>
        </p:nvSpPr>
        <p:spPr>
          <a:xfrm>
            <a:off x="3192480" y="3633840"/>
            <a:ext cx="5842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Schoolbook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6"/>
          <p:cNvSpPr/>
          <p:nvPr/>
        </p:nvSpPr>
        <p:spPr>
          <a:xfrm>
            <a:off x="2754360" y="3925800"/>
            <a:ext cx="4076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Schoolbook"/>
              </a:rPr>
              <a:t>Transport work: ATP phosphorylates transport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7"/>
          <p:cNvSpPr/>
          <p:nvPr/>
        </p:nvSpPr>
        <p:spPr>
          <a:xfrm>
            <a:off x="4989600" y="3627360"/>
            <a:ext cx="13968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Schoolbook"/>
              </a:rPr>
              <a:t>Solute trans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8"/>
          <p:cNvSpPr/>
          <p:nvPr/>
        </p:nvSpPr>
        <p:spPr>
          <a:xfrm>
            <a:off x="2751120" y="6012000"/>
            <a:ext cx="40924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Schoolbook"/>
              </a:rPr>
              <a:t>Chemical work: ATP phosphorylates key rea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9"/>
          <p:cNvSpPr/>
          <p:nvPr/>
        </p:nvSpPr>
        <p:spPr>
          <a:xfrm>
            <a:off x="2806560" y="5602320"/>
            <a:ext cx="1854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Schoolbook"/>
              </a:rPr>
              <a:t>Reactants: Gluta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Schoolbook"/>
              </a:rPr>
              <a:t>and 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0"/>
          <p:cNvSpPr/>
          <p:nvPr/>
        </p:nvSpPr>
        <p:spPr>
          <a:xfrm>
            <a:off x="4889520" y="5602320"/>
            <a:ext cx="1432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Schoolbook"/>
              </a:rPr>
              <a:t>Product (glutam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Schoolbook"/>
              </a:rPr>
              <a:t>m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1"/>
          <p:cNvSpPr/>
          <p:nvPr/>
        </p:nvSpPr>
        <p:spPr>
          <a:xfrm>
            <a:off x="3489480" y="1200240"/>
            <a:ext cx="26640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2"/>
          <p:cNvSpPr/>
          <p:nvPr/>
        </p:nvSpPr>
        <p:spPr>
          <a:xfrm>
            <a:off x="2975040" y="2625840"/>
            <a:ext cx="65412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3"/>
          <p:cNvSpPr/>
          <p:nvPr/>
        </p:nvSpPr>
        <p:spPr>
          <a:xfrm flipV="1">
            <a:off x="3683160" y="3498480"/>
            <a:ext cx="79200" cy="21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4"/>
          <p:cNvSpPr/>
          <p:nvPr/>
        </p:nvSpPr>
        <p:spPr>
          <a:xfrm>
            <a:off x="3720960" y="4998960"/>
            <a:ext cx="1033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5"/>
          <p:cNvSpPr/>
          <p:nvPr/>
        </p:nvSpPr>
        <p:spPr>
          <a:xfrm>
            <a:off x="5648400" y="4992840"/>
            <a:ext cx="10296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6"/>
          <p:cNvSpPr/>
          <p:nvPr/>
        </p:nvSpPr>
        <p:spPr>
          <a:xfrm>
            <a:off x="7472520" y="2906640"/>
            <a:ext cx="10296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Catalyst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substance that can change the rate of a reaction without being altered in the proces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220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Enzyme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= biological cataly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220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peeds up metabolic reactions by lowering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activation energy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energy needed to start reaction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3" name="Picture 5" descr="08_UN02SucroseHydrolyzed-L.jpg"/>
          <p:cNvPicPr/>
          <p:nvPr/>
        </p:nvPicPr>
        <p:blipFill>
          <a:blip r:embed="rId1"/>
          <a:stretch/>
        </p:blipFill>
        <p:spPr>
          <a:xfrm>
            <a:off x="291960" y="2773440"/>
            <a:ext cx="85471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" descr="08_13EnzymeActivation-L.jpg"/>
          <p:cNvPicPr/>
          <p:nvPr/>
        </p:nvPicPr>
        <p:blipFill>
          <a:blip r:embed="rId1"/>
          <a:stretch/>
        </p:blipFill>
        <p:spPr>
          <a:xfrm>
            <a:off x="228600" y="457200"/>
            <a:ext cx="85471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4674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8637"/>
                </a:solidFill>
                <a:latin typeface="Century Schoolbook"/>
              </a:rPr>
              <a:t>SUBSTRATE SPECIFICITY OF ENZYM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240" y="715680"/>
            <a:ext cx="85345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 reactant that an enzyme acts on is called the enzyme’s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substrate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 enzyme binds to its substrate, forming an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enzyme-substrate complex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ctive site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s the region on the enzyme where the substrate bind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7" name="Picture 2" descr="http://leavingbio.net/ENZYMES_files/image010.gif"/>
          <p:cNvPicPr/>
          <p:nvPr/>
        </p:nvPicPr>
        <p:blipFill>
          <a:blip r:embed="rId1"/>
          <a:stretch/>
        </p:blipFill>
        <p:spPr>
          <a:xfrm>
            <a:off x="2514600" y="3632040"/>
            <a:ext cx="4495680" cy="2997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3" descr="08_15CatalyticCycle_1-L.jpg"/>
          <p:cNvPicPr/>
          <p:nvPr/>
        </p:nvPicPr>
        <p:blipFill>
          <a:blip r:embed="rId1"/>
          <a:stretch/>
        </p:blipFill>
        <p:spPr>
          <a:xfrm>
            <a:off x="430200" y="136440"/>
            <a:ext cx="828360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1" descr="08_15CatalyticCycle_2-L.jpg"/>
          <p:cNvPicPr/>
          <p:nvPr/>
        </p:nvPicPr>
        <p:blipFill>
          <a:blip r:embed="rId1"/>
          <a:stretch/>
        </p:blipFill>
        <p:spPr>
          <a:xfrm>
            <a:off x="430200" y="136440"/>
            <a:ext cx="828360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" descr="08_15CatalyticCycle_3-L.jpg"/>
          <p:cNvPicPr/>
          <p:nvPr/>
        </p:nvPicPr>
        <p:blipFill>
          <a:blip r:embed="rId1"/>
          <a:stretch/>
        </p:blipFill>
        <p:spPr>
          <a:xfrm>
            <a:off x="430200" y="136440"/>
            <a:ext cx="828360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08_14InducedFit-L.jpg"/>
          <p:cNvPicPr/>
          <p:nvPr/>
        </p:nvPicPr>
        <p:blipFill>
          <a:blip r:embed="rId1"/>
          <a:stretch/>
        </p:blipFill>
        <p:spPr>
          <a:xfrm>
            <a:off x="380880" y="1905120"/>
            <a:ext cx="8547120" cy="46638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INDUCED FIT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: ENZYME FITS SNUGLY AROUND SUBSTRATE -- </a:t>
            </a:r>
            <a:r>
              <a:rPr b="0" lang="ja-JP" sz="2400" spc="-1" strike="noStrike">
                <a:solidFill>
                  <a:srgbClr val="575f6d"/>
                </a:solidFill>
                <a:latin typeface="Century Schoolbook"/>
              </a:rPr>
              <a:t>“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CLASPING HANDSHAKE</a:t>
            </a:r>
            <a:r>
              <a:rPr b="0" lang="ja-JP" sz="2400" spc="-1" strike="noStrike">
                <a:solidFill>
                  <a:srgbClr val="575f6d"/>
                </a:solidFill>
                <a:latin typeface="Century Schoolbook"/>
              </a:rPr>
              <a:t>”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228240" y="609480"/>
            <a:ext cx="3352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n enzyme’s activity can be affected by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hemical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4" name="Content Placeholder 29" descr="08_16_EnzymeEnviroFactor-L.jpg"/>
          <p:cNvPicPr/>
          <p:nvPr/>
        </p:nvPicPr>
        <p:blipFill>
          <a:blip r:embed="rId1"/>
          <a:stretch/>
        </p:blipFill>
        <p:spPr>
          <a:xfrm>
            <a:off x="3581280" y="457200"/>
            <a:ext cx="517860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74674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e8637"/>
                </a:solidFill>
                <a:latin typeface="Century Schoolbook"/>
              </a:rPr>
              <a:t>COFACTOR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Cofactor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re </a:t>
            </a:r>
            <a:r>
              <a:rPr b="0" lang="en-US" sz="2800" spc="-1" strike="noStrike">
                <a:solidFill>
                  <a:srgbClr val="fe8637"/>
                </a:solidFill>
                <a:latin typeface="Century Schoolbook"/>
              </a:rPr>
              <a:t>nonprotein enzyme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elpers such as minerals (eg. Zn, Fe, Cu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Coenzym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re </a:t>
            </a:r>
            <a:r>
              <a:rPr b="0" lang="en-US" sz="2800" spc="-1" strike="noStrike">
                <a:solidFill>
                  <a:srgbClr val="fe8637"/>
                </a:solidFill>
                <a:latin typeface="Century Schoolbook"/>
              </a:rPr>
              <a:t>organic cofactors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eg. vitamin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8637"/>
                </a:solidFill>
                <a:latin typeface="Century Schoolbook"/>
              </a:rPr>
              <a:t>Enzyme Inhibito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Competitive inhibitor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inds to the </a:t>
            </a:r>
            <a:r>
              <a:rPr b="0" i="1" lang="en-US" sz="2800" spc="-1" strike="noStrike">
                <a:solidFill>
                  <a:srgbClr val="0070c0"/>
                </a:solidFill>
                <a:latin typeface="Century Schoolbook"/>
              </a:rPr>
              <a:t>active site</a:t>
            </a:r>
            <a:r>
              <a:rPr b="0" i="1" lang="en-US" sz="2800" spc="-1" strike="noStrike">
                <a:solidFill>
                  <a:srgbClr val="0070c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f an enzyme, competes with substra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Noncompetitive inhibitor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inds to </a:t>
            </a:r>
            <a:r>
              <a:rPr b="0" i="1" lang="en-US" sz="2800" spc="-1" strike="noStrike">
                <a:solidFill>
                  <a:srgbClr val="0070c0"/>
                </a:solidFill>
                <a:latin typeface="Century Schoolbook"/>
              </a:rPr>
              <a:t>another part</a:t>
            </a:r>
            <a:r>
              <a:rPr b="0" i="1" lang="en-US" sz="2800" spc="-1" strike="noStrike">
                <a:solidFill>
                  <a:srgbClr val="0070c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f an enzym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enzyme changes shap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active site is </a:t>
            </a:r>
            <a:r>
              <a:rPr b="0" lang="en-US" sz="2800" spc="-1" strike="noStrike">
                <a:solidFill>
                  <a:srgbClr val="7030a0"/>
                </a:solidFill>
                <a:latin typeface="Century Schoolbook"/>
              </a:rPr>
              <a:t>nonfunctiona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. 8 WARM-U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371240"/>
            <a:ext cx="80773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raw and label the following: enzyme, active site, substrat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escribe what is meant by the term </a:t>
            </a:r>
            <a:r>
              <a:rPr b="1" i="1" lang="en-US" sz="2800" spc="-1" strike="noStrike">
                <a:solidFill>
                  <a:srgbClr val="002060"/>
                </a:solidFill>
                <a:latin typeface="Century Schoolbook"/>
              </a:rPr>
              <a:t>induced fit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at types of factors can affect an enzyme’s function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INHIBITION OF ENZYME ACTIVITY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8" name="Content Placeholder 3" descr="08_17EnzymeInhibition-L.jpg"/>
          <p:cNvPicPr/>
          <p:nvPr/>
        </p:nvPicPr>
        <p:blipFill>
          <a:blip r:embed="rId1"/>
          <a:stretch/>
        </p:blipFill>
        <p:spPr>
          <a:xfrm>
            <a:off x="380880" y="1676520"/>
            <a:ext cx="850284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8637"/>
                </a:solidFill>
                <a:latin typeface="Century Schoolbook"/>
              </a:rPr>
              <a:t>REGULATION OF ENZYME ACTIVITY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6840" y="1294920"/>
            <a:ext cx="807732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 regulate metabolic pathways, the cell switches on/off the genes that encode specific enzym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Allosteric regulatio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protein’s function at one site is affected by binding of a </a:t>
            </a:r>
            <a:r>
              <a:rPr b="1" lang="en-US" sz="2800" spc="-1" strike="noStrike">
                <a:solidFill>
                  <a:srgbClr val="fe8637"/>
                </a:solidFill>
                <a:latin typeface="Century Schoolbook"/>
              </a:rPr>
              <a:t>regulatory molecule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 a separate site (allosteric site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entury Schoolbook"/>
              </a:rPr>
              <a:t>Activato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– stabilizes active si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entury Schoolbook"/>
              </a:rPr>
              <a:t>Inhibito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– stabiliz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inactive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for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entury Schoolbook"/>
              </a:rPr>
              <a:t>Cooperativity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– one substrate triggers shape change in other active sit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increase catalytic activi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Content Placeholder 6" descr="08_19aAllostericReg-L.jpg"/>
          <p:cNvPicPr/>
          <p:nvPr/>
        </p:nvPicPr>
        <p:blipFill>
          <a:blip r:embed="rId1"/>
          <a:stretch/>
        </p:blipFill>
        <p:spPr>
          <a:xfrm>
            <a:off x="1523880" y="228600"/>
            <a:ext cx="632484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Content Placeholder 3" descr="08_19bAllostericReg-L.jpg"/>
          <p:cNvPicPr/>
          <p:nvPr/>
        </p:nvPicPr>
        <p:blipFill>
          <a:blip r:embed="rId1"/>
          <a:stretch/>
        </p:blipFill>
        <p:spPr>
          <a:xfrm>
            <a:off x="762120" y="1143000"/>
            <a:ext cx="746748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e8637"/>
                </a:solidFill>
                <a:latin typeface="Century Schoolbook"/>
              </a:rPr>
              <a:t>FEEDBACK INHIBITIO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nd product of a metabolic pathway shuts down pathway by binding to the allosteric site of an enzym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revent wasting chemical resources, increase efficiency of cel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Content Placeholder 3" descr="08_21FeedbackInhibition-L.jpg"/>
          <p:cNvPicPr/>
          <p:nvPr/>
        </p:nvPicPr>
        <p:blipFill>
          <a:blip r:embed="rId1"/>
          <a:stretch/>
        </p:blipFill>
        <p:spPr>
          <a:xfrm>
            <a:off x="2646360" y="228600"/>
            <a:ext cx="6192720" cy="647388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038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FEEDBACK INHIBITIO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CHAPTER 8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Century Schoolbook"/>
              </a:rPr>
              <a:t>An Introduction to Metabolism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4" descr="08_01FireflySquid-L.jpg"/>
          <p:cNvPicPr/>
          <p:nvPr/>
        </p:nvPicPr>
        <p:blipFill>
          <a:blip r:embed="rId1"/>
          <a:stretch/>
        </p:blipFill>
        <p:spPr>
          <a:xfrm>
            <a:off x="3657600" y="533520"/>
            <a:ext cx="475776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WHAT YOU NEED TO KNOW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04560" y="1523880"/>
            <a:ext cx="84582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xamples of endergonic and exergonic reaction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 key role of ATP in energy coupling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at enzymes work by lowering the energy of activa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 catalytic cycle of an enzyme that results in the production of a final produc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 factors that influence enzyme activit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380880" y="274284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Metabolism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is the totality of an organism’s chemical reactio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anage the materials and energy resources of a cel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5" descr="08_UN01MetabolicPathway-L.jpg"/>
          <p:cNvPicPr/>
          <p:nvPr/>
        </p:nvPicPr>
        <p:blipFill>
          <a:blip r:embed="rId1"/>
          <a:stretch/>
        </p:blipFill>
        <p:spPr>
          <a:xfrm>
            <a:off x="304920" y="533520"/>
            <a:ext cx="8547120" cy="18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228240" y="10666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Catabolic pathways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release energy by breaking down complex molecules into simpler compound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g. digestive enzymes break down foo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release energ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Anabolic pathways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onsume energy to build complex molecules from simpler on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g. amino acids link to form muscle protei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ENERGY = CAPACITY TO DO WORK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146240"/>
            <a:ext cx="800100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e8637"/>
                </a:solidFill>
                <a:uFillTx/>
                <a:latin typeface="Century Schoolbook"/>
              </a:rPr>
              <a:t>Kinetic energy (KE)</a:t>
            </a:r>
            <a:r>
              <a:rPr b="0" lang="en-US" sz="2600" spc="-1" strike="noStrike">
                <a:solidFill>
                  <a:srgbClr val="fe8637"/>
                </a:solidFill>
                <a:latin typeface="Century Schoolbook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energy associated with motion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0000"/>
              </a:lnSpc>
              <a:spcBef>
                <a:spcPts val="3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70c0"/>
                </a:solidFill>
                <a:latin typeface="Century Schoolbook"/>
              </a:rPr>
              <a:t>Heat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(thermal energy) is KE associated with random movement of atoms or molecule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e8637"/>
                </a:solidFill>
                <a:uFillTx/>
                <a:latin typeface="Century Schoolbook"/>
              </a:rPr>
              <a:t>Potential energy (PE)</a:t>
            </a:r>
            <a:r>
              <a:rPr b="0" lang="en-US" sz="2600" spc="-1" strike="noStrike">
                <a:solidFill>
                  <a:srgbClr val="fe8637"/>
                </a:solidFill>
                <a:latin typeface="Century Schoolbook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tored energy as a result of its position or structur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70c0"/>
                </a:solidFill>
                <a:latin typeface="Century Schoolbook"/>
              </a:rPr>
              <a:t>Chemical energy 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is PE available for release in a chemical reaction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Energy can be </a:t>
            </a:r>
            <a:r>
              <a:rPr b="0" lang="en-US" sz="2600" spc="-1" strike="noStrike">
                <a:solidFill>
                  <a:srgbClr val="0070c0"/>
                </a:solidFill>
                <a:latin typeface="Century Schoolbook"/>
              </a:rPr>
              <a:t>converted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rom one form to another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Eg. chemical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mechanical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electrica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Content Placeholder 3" descr="08_02EnergyTransformat-L.jpg"/>
          <p:cNvPicPr/>
          <p:nvPr/>
        </p:nvPicPr>
        <p:blipFill>
          <a:blip r:embed="rId1"/>
          <a:stretch/>
        </p:blipFill>
        <p:spPr>
          <a:xfrm>
            <a:off x="1143000" y="533520"/>
            <a:ext cx="640080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2:21:54Z</dcterms:created>
  <dc:creator>Jackie</dc:creator>
  <dc:description/>
  <dc:language>en-US</dc:language>
  <cp:lastModifiedBy>Chris Nancy Chou</cp:lastModifiedBy>
  <dcterms:modified xsi:type="dcterms:W3CDTF">2012-09-27T05:38:45Z</dcterms:modified>
  <cp:revision>40</cp:revision>
  <dc:subject/>
  <dc:title>Chapter 8</dc:title>
</cp:coreProperties>
</file>